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5.gif" ContentType="image/gif"/>
  <Override PartName="/ppt/media/image7.png" ContentType="image/png"/>
  <Override PartName="/ppt/media/image1.jpeg" ContentType="image/jpeg"/>
  <Override PartName="/ppt/media/image11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png" ContentType="image/png"/>
  <Override PartName="/ppt/media/image14.wmf" ContentType="image/x-wmf"/>
  <Override PartName="/ppt/media/image2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dt" idx="1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move the slide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ftr" idx="2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 type="sldNum" idx="2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ED14-E923-41E0-8D64-4DF49782C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E954-0E04-4A9D-930C-472CBD8C87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3D57-A75A-409D-93C6-8D1CAC786E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eck online Standards under Student Technology Goals on Technology Professional Developmen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 nature of the 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22C2-5339-477D-9D35-CE143728E4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D051-C553-455F-8402-51E90695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B5C9-296C-41DA-BBA5-74FEF6F2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3229-239D-4A03-9F7E-0972505B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6808-2F8A-4F8C-9A0C-DCDB51E7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B850-98CA-44BE-8AF9-3240CFBB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5CD3-6632-40EB-B863-0547AD5F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345B-4048-4B48-A79D-E0B31E01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9866-45E1-4412-B3AF-746E76A1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3DDB-BA5E-4B65-958C-59ABB05B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31FE-A534-4441-A1AD-C0944669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4B18-EC1D-4BF3-B9C6-39B19B69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37A8-9067-4A13-9DB1-A8C1E8BC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73F4-4CA6-4AE5-8877-E02DA1D4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102C-05B3-4332-8EE4-5D1216F6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BAAC-7F42-45F3-9A32-12BD7538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3AEF-3BC0-46D5-AA6B-4A3A1CBA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502E-ABB9-4DD3-BB1C-DC00F6F7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78B74-09CD-4AEE-93DF-FBA1EA78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8EBED-28F7-4815-8F3F-941A4B28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F3B37-29D4-4DE6-B58D-D9B1190B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D0670-EDAE-41B7-83FC-09A81228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FF474-C48E-4889-9735-ED0A4D07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4A09-9130-4107-A404-078302EC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4C8D8-D445-49DE-9659-1888E838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9654B-206A-4FC4-A862-0A5B54FA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DAB85-5630-43B3-998D-767F5B95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CFB33-ADC4-4042-825E-6DA1A889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0E8F9-9BF0-406E-BCA6-60B82AD1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92670-A192-4800-AE68-63711BB3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A74B0-6810-4C01-B516-00BFA47B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C494A-9522-4F2D-A816-F8DBF31B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CB978-7CE3-4CB4-805E-00DA4CED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9D785-2B7D-45C2-9E42-680FCCE0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CD2C-287F-4F03-9091-F2EB5DF1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7A964-8CD3-44EE-AF3A-7B341DAB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D0603-13F5-4DAF-9B55-72938C0F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4C924-A127-47DD-AE6B-B5E5D47D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8AF3B-AC0A-48FC-856E-2E45ECC6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F1601-55AB-4ED8-B0AC-186661D9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1E582-40A3-4F94-A051-1979A655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EDB69-D7E4-42B7-BEA1-72E7D0AB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3013E-D384-477E-96E8-9A1F2CB7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C8B12-22C8-4860-8F61-728B73D1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D4C6E-DB53-4E2C-AFD9-CD3857A5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A0E6-BD8A-4987-8E34-C4805BE3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36552-3C92-4AA3-A902-0E23EB7D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3E357-1246-4AF9-9C23-F28593E1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97B1B-D1E8-4A27-B42C-C07B6EE6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0F302-5B49-4858-A99E-0EAEC979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932B0-330F-4C49-8910-6A4D5AFB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B47F4-6436-4F66-8E47-A7C487AC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A5911-EAA5-4497-A8F3-08F0C638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39530-379A-41EF-B62F-7D93A6C5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E352D-CC9E-4AE9-8273-56872C8E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1E687-A61A-404C-A7DF-1F22147E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13AE-52A8-4983-8087-67931A69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9320C-824E-4F1A-B0DD-C591BD8A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B18315-77BF-4459-92EA-3BFC2570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363F43-D881-4A05-B57B-5D838B47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0C0E56-28FB-4AAB-B68C-0D8E5CFF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FA6CEB-23BF-467B-9FD1-EA58CA97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02EB4B-25A5-4871-9BB0-7548CE9B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877711-F9D2-4037-A3FC-BB1610D8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6FED29-9F2B-4BC3-8F42-AAF1D91F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E5456E-46A3-4AAC-A9DE-46631AFD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1231F7-5776-4157-B93F-F2F4B2EF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A9F5-12C8-4662-AC22-7FCC1B80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1AC6B4-3F92-408E-8B04-A78155BF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2C6227-821E-43ED-AA33-0367AFD1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85B975-E73A-410A-9CE0-641D001A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59A-93E1-4587-93EA-E369960C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C32B-9911-46B2-B792-48CE9E7C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1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4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D643-9453-4ABE-87A1-3A987B17B64A}" type="slidenum">
              <a:rPr b="0" lang="en-US" sz="1400" spc="-1" strike="noStrike">
                <a:solidFill>
                  <a:srgbClr val="bcb7a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48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51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" name="Flowchart: Document 6"/>
          <p:cNvGrpSpPr/>
          <p:nvPr/>
        </p:nvGrpSpPr>
        <p:grpSpPr>
          <a:xfrm>
            <a:off x="-6480" y="1170000"/>
            <a:ext cx="9156960" cy="3792600"/>
            <a:chOff x="-6480" y="1170000"/>
            <a:chExt cx="9156960" cy="3792600"/>
          </a:xfrm>
        </p:grpSpPr>
        <p:pic>
          <p:nvPicPr>
            <p:cNvPr id="54" name="Flowchart: Document 6" descr=""/>
            <p:cNvPicPr/>
            <p:nvPr/>
          </p:nvPicPr>
          <p:blipFill>
            <a:blip r:embed="rId5"/>
            <a:stretch/>
          </p:blipFill>
          <p:spPr>
            <a:xfrm>
              <a:off x="-6480" y="1170000"/>
              <a:ext cx="9156960" cy="37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10800000">
              <a:off x="0" y="1520640"/>
              <a:ext cx="9144000" cy="34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9E82-89A3-4877-8223-DD3CF4AC290E}" type="slidenum">
              <a:rPr b="0" lang="en-US" sz="1400" spc="-1" strike="noStrike">
                <a:solidFill>
                  <a:srgbClr val="bcb7a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ABEB-075B-4230-BB90-B7246839EBF7}" type="slidenum">
              <a:rPr b="0" lang="en-US" sz="1400" spc="-1" strike="noStrike">
                <a:solidFill>
                  <a:srgbClr val="bcb7a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64CD-6894-4ED8-BA86-7B02CAA04642}" type="slidenum">
              <a:rPr b="0" lang="en-US" sz="1400" spc="-1" strike="noStrike">
                <a:solidFill>
                  <a:srgbClr val="bcb7a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87BC-1FFE-4993-B3F9-2EF944CD0FA0}" type="slidenum">
              <a:rPr b="0" lang="en-US" sz="1400" spc="-1" strike="noStrike">
                <a:solidFill>
                  <a:srgbClr val="bcb7a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221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224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B63F-4A8F-4E98-93D9-E098C5D05024}" type="slidenum">
              <a:rPr b="0" lang="en-US" sz="1400" spc="-1" strike="noStrike">
                <a:solidFill>
                  <a:srgbClr val="bcb7a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Quotes"/>
          <p:cNvPicPr/>
          <p:nvPr/>
        </p:nvPicPr>
        <p:blipFill>
          <a:blip r:embed="rId1"/>
          <a:stretch/>
        </p:blipFill>
        <p:spPr>
          <a:xfrm>
            <a:off x="190440" y="1523880"/>
            <a:ext cx="872496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Rectangle 2" descr=""/>
          <p:cNvPicPr/>
          <p:nvPr/>
        </p:nvPicPr>
        <p:blipFill>
          <a:blip r:embed="rId1"/>
          <a:stretch/>
        </p:blipFill>
        <p:spPr>
          <a:xfrm>
            <a:off x="-115920" y="530280"/>
            <a:ext cx="8583480" cy="9572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4"/>
          <p:cNvSpPr/>
          <p:nvPr/>
        </p:nvSpPr>
        <p:spPr>
          <a:xfrm>
            <a:off x="685800" y="2085840"/>
            <a:ext cx="28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Your Subject Matter and Your Content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6"/>
          <p:cNvSpPr/>
          <p:nvPr/>
        </p:nvSpPr>
        <p:spPr>
          <a:xfrm>
            <a:off x="1295280" y="4800600"/>
            <a:ext cx="5105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ind/Adapt/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ppropri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es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7"/>
          <p:cNvSpPr/>
          <p:nvPr/>
        </p:nvSpPr>
        <p:spPr>
          <a:xfrm>
            <a:off x="3505320" y="2438280"/>
            <a:ext cx="76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19"/>
          <p:cNvSpPr/>
          <p:nvPr/>
        </p:nvSpPr>
        <p:spPr>
          <a:xfrm>
            <a:off x="6781680" y="2819520"/>
            <a:ext cx="1905120" cy="3276360"/>
          </a:xfrm>
          <a:custGeom>
            <a:avLst/>
            <a:gdLst>
              <a:gd name="textAreaLeft" fmla="*/ 255240 w 1905120"/>
              <a:gd name="textAreaRight" fmla="*/ 1649880 w 1905120"/>
              <a:gd name="textAreaTop" fmla="*/ 638280 h 3276360"/>
              <a:gd name="textAreaBottom" fmla="*/ 235152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20" stAng="-5400000" swAng="5400000"/>
                <a:lnTo>
                  <a:pt x="21600" y="11293"/>
                </a:lnTo>
                <a:arcTo wR="21600" hR="8420" stAng="0" swAng="2867459"/>
                <a:lnTo>
                  <a:pt x="7200" y="21118"/>
                </a:lnTo>
                <a:lnTo>
                  <a:pt x="0" y="18276"/>
                </a:lnTo>
                <a:lnTo>
                  <a:pt x="7200" y="14469"/>
                </a:lnTo>
                <a:lnTo>
                  <a:pt x="7200" y="16357"/>
                </a:lnTo>
                <a:arcTo wR="21600" hR="8420" stAng="2867459" swAng="-2635782"/>
                <a:lnTo>
                  <a:pt x="21283" y="9856"/>
                </a:lnTo>
                <a:arcTo wR="21600" hR="8420" stAng="-231677" swAng="-5168323"/>
                <a:close/>
              </a:path>
              <a:path fill="darkenLess" w="21600" h="21600">
                <a:moveTo>
                  <a:pt x="0" y="0"/>
                </a:moveTo>
                <a:arcTo wR="21600" hR="8420" stAng="-5400000" swAng="5400000"/>
                <a:lnTo>
                  <a:pt x="21600" y="11293"/>
                </a:lnTo>
                <a:arcTo wR="21600" hR="8420" stAng="0" swAng="-231677"/>
                <a:lnTo>
                  <a:pt x="21283" y="9856"/>
                </a:lnTo>
                <a:arcTo wR="21600" hR="8420" stAng="-231677" swAng="-5168323"/>
                <a:close/>
              </a:path>
            </a:pathLst>
          </a:custGeom>
          <a:solidFill>
            <a:srgbClr val="cc47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4267080" y="2085840"/>
            <a:ext cx="2895840" cy="180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National Educational Technology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533520" y="1828800"/>
            <a:ext cx="6629400" cy="2438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171360" y="165240"/>
            <a:ext cx="8521920" cy="23763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28954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use of technology makes sens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Effectivenes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and/or 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Efficiency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of instruction is increas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133200" y="2590920"/>
            <a:ext cx="8609040" cy="356076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500040" y="156060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365040" y="835200"/>
            <a:ext cx="8102520" cy="11826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0948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nsult standard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Your core curricular standard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NETS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lan a less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ek help – if need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each the less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valuate effectiveness of meeting curricular standards and technology integr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79200" y="530280"/>
            <a:ext cx="8614080" cy="15667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ctivities Prior to the Compu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ctivities While at the Compu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Job Aids”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ctivities After the Compu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upporting Activiti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ponge Activities”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ssessm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79200" y="530280"/>
            <a:ext cx="8614080" cy="15667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hare one lesson you found and explain what you like about i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ich NETS does it address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Rectangle 2" descr=""/>
          <p:cNvPicPr/>
          <p:nvPr/>
        </p:nvPicPr>
        <p:blipFill>
          <a:blip r:embed="rId1"/>
          <a:stretch/>
        </p:blipFill>
        <p:spPr>
          <a:xfrm>
            <a:off x="109440" y="2584440"/>
            <a:ext cx="8632800" cy="236556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500040" y="156060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eb. 12, 2007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3:35 – 5:00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450720" y="2736720"/>
            <a:ext cx="82425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Rectangle 2" descr=""/>
          <p:cNvPicPr/>
          <p:nvPr/>
        </p:nvPicPr>
        <p:blipFill>
          <a:blip r:embed="rId1"/>
          <a:stretch/>
        </p:blipFill>
        <p:spPr>
          <a:xfrm>
            <a:off x="79200" y="530280"/>
            <a:ext cx="8614080" cy="15667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n Approach for Integrating Tec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ome Idea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ime to Search, Adapt, and Desig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ime to Shar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115920" y="378000"/>
            <a:ext cx="8577360" cy="95724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685800" y="2085840"/>
            <a:ext cx="28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Your Subject Matter and Your Content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1295280" y="4800600"/>
            <a:ext cx="5105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ind/Adapt/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ppropri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es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3505320" y="2438280"/>
            <a:ext cx="76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19"/>
          <p:cNvSpPr/>
          <p:nvPr/>
        </p:nvSpPr>
        <p:spPr>
          <a:xfrm>
            <a:off x="6781680" y="2819520"/>
            <a:ext cx="1905120" cy="3276360"/>
          </a:xfrm>
          <a:custGeom>
            <a:avLst/>
            <a:gdLst>
              <a:gd name="textAreaLeft" fmla="*/ 255240 w 1905120"/>
              <a:gd name="textAreaRight" fmla="*/ 1649880 w 1905120"/>
              <a:gd name="textAreaTop" fmla="*/ 638280 h 3276360"/>
              <a:gd name="textAreaBottom" fmla="*/ 235152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20" stAng="-5400000" swAng="5400000"/>
                <a:lnTo>
                  <a:pt x="21600" y="11293"/>
                </a:lnTo>
                <a:arcTo wR="21600" hR="8420" stAng="0" swAng="2867459"/>
                <a:lnTo>
                  <a:pt x="7200" y="21118"/>
                </a:lnTo>
                <a:lnTo>
                  <a:pt x="0" y="18276"/>
                </a:lnTo>
                <a:lnTo>
                  <a:pt x="7200" y="14469"/>
                </a:lnTo>
                <a:lnTo>
                  <a:pt x="7200" y="16357"/>
                </a:lnTo>
                <a:arcTo wR="21600" hR="8420" stAng="2867459" swAng="-2635782"/>
                <a:lnTo>
                  <a:pt x="21283" y="9856"/>
                </a:lnTo>
                <a:arcTo wR="21600" hR="8420" stAng="-231677" swAng="-5168323"/>
                <a:close/>
              </a:path>
              <a:path fill="darkenLess" w="21600" h="21600">
                <a:moveTo>
                  <a:pt x="0" y="0"/>
                </a:moveTo>
                <a:arcTo wR="21600" hR="8420" stAng="-5400000" swAng="5400000"/>
                <a:lnTo>
                  <a:pt x="21600" y="11293"/>
                </a:lnTo>
                <a:arcTo wR="21600" hR="8420" stAng="0" swAng="-231677"/>
                <a:lnTo>
                  <a:pt x="21283" y="9856"/>
                </a:lnTo>
                <a:arcTo wR="21600" hR="8420" stAng="-231677" swAng="-5168323"/>
                <a:close/>
              </a:path>
            </a:pathLst>
          </a:custGeom>
          <a:solidFill>
            <a:srgbClr val="cc47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4267080" y="2085840"/>
            <a:ext cx="2895840" cy="180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National Educational Technology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533520" y="1828800"/>
            <a:ext cx="6629400" cy="2438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2" descr=""/>
          <p:cNvPicPr/>
          <p:nvPr/>
        </p:nvPicPr>
        <p:blipFill>
          <a:blip r:embed="rId1"/>
          <a:stretch/>
        </p:blipFill>
        <p:spPr>
          <a:xfrm>
            <a:off x="450720" y="1749600"/>
            <a:ext cx="82425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Rectangle 2" descr=""/>
          <p:cNvPicPr/>
          <p:nvPr/>
        </p:nvPicPr>
        <p:blipFill>
          <a:blip r:embed="rId1"/>
          <a:stretch/>
        </p:blipFill>
        <p:spPr>
          <a:xfrm>
            <a:off x="353880" y="420840"/>
            <a:ext cx="8704440" cy="1536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685800" y="19810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9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NETS have been developed for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Student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Teacher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Administrator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3" descr=""/>
          <p:cNvPicPr/>
          <p:nvPr/>
        </p:nvPicPr>
        <p:blipFill>
          <a:blip r:embed="rId1"/>
          <a:stretch/>
        </p:blipFill>
        <p:spPr>
          <a:xfrm>
            <a:off x="365040" y="987480"/>
            <a:ext cx="8102520" cy="8776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2052360"/>
            <a:ext cx="79884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AT technology skills should be woven into the curricular fabric of our schools . . 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EN such skills should be taught . . 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HOW technology can support learning . . .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2"/>
          <a:stretch/>
        </p:blipFill>
        <p:spPr>
          <a:xfrm>
            <a:off x="5029200" y="3984480"/>
            <a:ext cx="365112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Rectangle 2" descr=""/>
          <p:cNvPicPr/>
          <p:nvPr/>
        </p:nvPicPr>
        <p:blipFill>
          <a:blip r:embed="rId1"/>
          <a:stretch/>
        </p:blipFill>
        <p:spPr>
          <a:xfrm>
            <a:off x="401760" y="957240"/>
            <a:ext cx="8345520" cy="127944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6840" y="3132000"/>
            <a:ext cx="4033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825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Grades PreK–1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80000"/>
              </a:lnSpc>
              <a:spcBef>
                <a:spcPts val="825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Grades 2–4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80000"/>
              </a:lnSpc>
              <a:spcBef>
                <a:spcPts val="825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Grades 5–8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80000"/>
              </a:lnSpc>
              <a:spcBef>
                <a:spcPts val="825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Grades 9–12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2"/>
          <a:stretch/>
        </p:blipFill>
        <p:spPr>
          <a:xfrm>
            <a:off x="4648320" y="2563920"/>
            <a:ext cx="403848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Rectangle 2" descr=""/>
          <p:cNvPicPr/>
          <p:nvPr/>
        </p:nvPicPr>
        <p:blipFill>
          <a:blip r:embed="rId1"/>
          <a:stretch/>
        </p:blipFill>
        <p:spPr>
          <a:xfrm>
            <a:off x="79200" y="530280"/>
            <a:ext cx="8614080" cy="15667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5320" indent="-625320">
              <a:lnSpc>
                <a:spcPct val="90000"/>
              </a:lnSpc>
              <a:spcBef>
                <a:spcPts val="751"/>
              </a:spcBef>
              <a:buClr>
                <a:srgbClr val="cc4757"/>
              </a:buClr>
              <a:buSzPct val="7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asic Operations &amp; Concepts 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25320" indent="-625320">
              <a:lnSpc>
                <a:spcPct val="90000"/>
              </a:lnSpc>
              <a:spcBef>
                <a:spcPts val="751"/>
              </a:spcBef>
              <a:buClr>
                <a:srgbClr val="cc4757"/>
              </a:buClr>
              <a:buSzPct val="7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ocial, Ethical, &amp; Human Issues 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25320" indent="-625320">
              <a:lnSpc>
                <a:spcPct val="90000"/>
              </a:lnSpc>
              <a:spcBef>
                <a:spcPts val="751"/>
              </a:spcBef>
              <a:buClr>
                <a:srgbClr val="cc4757"/>
              </a:buClr>
              <a:buSzPct val="7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ech as a Productivity Tool 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25320" indent="-625320">
              <a:lnSpc>
                <a:spcPct val="90000"/>
              </a:lnSpc>
              <a:spcBef>
                <a:spcPts val="751"/>
              </a:spcBef>
              <a:buClr>
                <a:srgbClr val="cc4757"/>
              </a:buClr>
              <a:buSzPct val="7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ech as a Communication Tool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25320" indent="-625320">
              <a:lnSpc>
                <a:spcPct val="90000"/>
              </a:lnSpc>
              <a:spcBef>
                <a:spcPts val="751"/>
              </a:spcBef>
              <a:buClr>
                <a:srgbClr val="cc4757"/>
              </a:buClr>
              <a:buSzPct val="7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ech as a Research Tool 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25320" indent="-625320">
              <a:lnSpc>
                <a:spcPct val="90000"/>
              </a:lnSpc>
              <a:spcBef>
                <a:spcPts val="751"/>
              </a:spcBef>
              <a:buClr>
                <a:srgbClr val="cc4757"/>
              </a:buClr>
              <a:buSzPct val="7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ech as a Problem-Solving &amp; Decision Making Tool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04:03:31Z</dcterms:created>
  <dc:creator>DVan</dc:creator>
  <dc:description/>
  <dc:language>en-US</dc:language>
  <cp:lastModifiedBy>helen</cp:lastModifiedBy>
  <dcterms:modified xsi:type="dcterms:W3CDTF">2010-07-21T13:38:58Z</dcterms:modified>
  <cp:revision>19</cp:revision>
  <dc:subject/>
  <dc:title>Finding Tech Integrating Lessons </dc:title>
</cp:coreProperties>
</file>